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8C39-F5F8-4E03-ADA1-EF020E7DD3B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8450-ED01-447C-9B94-B66BB50519F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F7B4-5FEF-4B05-9D35-839F03E22CF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33D3-48B1-49D8-A94D-0458041819F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0C78-845C-421C-AA64-23F41A46DAB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2970-49AC-417A-88C6-01A587575C4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D53E-C332-4E53-A8CC-BA0DCFA7E83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52CC-A188-4C93-A438-A3AF0FCB2C1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0961-8240-416C-819A-464F62C229C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A7CA-582B-4821-BA85-15DFDFCEF76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C6EEACA-56A6-47AA-9603-40DC4AECE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0339A3E-9061-4605-BBFE-4ADA897AA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6E9620D-C8A7-46D1-BDBE-38CAFD6EF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7815D4B-20EB-4DFD-9FDC-E94253200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F88925-5D86-4F24-9B20-2613DA7C7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AEAF92-490D-4E74-98CC-1369FB807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FF40D5-36EB-446A-B21F-6881BD53B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0A4C9D-A5DC-4480-958B-CFBC2C66E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B30284-D202-4864-B00B-53A623A54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65FA04-76DC-4868-AF36-EED35459D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95D847-1D2E-4739-BDBF-4ECBC8591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C360F3-4675-40B5-9356-805196772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1EC2DE-230F-48CC-BA23-C2C1C0795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FC9C1D-AD9F-45ED-967F-9A13324D4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E97197-B0A9-4A5B-A19C-F7903B9EC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605509C-514B-4B79-9884-663D18854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096A5F-34EC-42C8-839D-B0467D848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12AD37-6155-40D4-A746-03E9B5389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88057D-CF62-4495-8F3B-5484822E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B3F6D4-7AAA-486C-8812-E6F1A04D7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A384DA-E93E-4CC3-B346-F86E99D55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6A1C3C-52BF-4956-A369-51CA1FC0E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9B6BED-1F4C-427E-9387-FD8C7533E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08A3F7-503C-4082-835E-182970F43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EE8B-1880-4971-AC11-AB00A39146F1}" type="datetime">
              <a:rPr b="0" lang="es-ES_tradnl" sz="1000" spc="-1" strike="noStrike">
                <a:solidFill>
                  <a:srgbClr val="ffff66"/>
                </a:solidFill>
                <a:latin typeface="Arial"/>
              </a:rPr>
              <a:t>31/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2589-737A-4EAC-ADE1-A47F33F32AA9}"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EBCE-43EB-4C3A-B89D-186A71AF5F0D}" type="datetime">
              <a:rPr b="0" lang="es-ES_tradnl" sz="1000" spc="-1" strike="noStrike">
                <a:solidFill>
                  <a:srgbClr val="ffffff"/>
                </a:solidFill>
                <a:latin typeface="Arial"/>
              </a:rPr>
              <a:t>31/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8596-2774-4FE3-AA4F-B1188134E915}"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